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0E4-DEB6-4383-9C16-58ED6F6E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E12-FC07-4A41-B968-307EB2FE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144-3EA8-4768-A208-6FA838B1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DBD-4B8E-48EF-B067-2013782C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4C8-FD26-4C2E-8218-EE19D4C2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BAC-0A84-4DD7-A675-19911B70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4BA-18B6-420A-AADB-5D4B5E68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810-C0E8-4510-B0E5-67864517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649-A2D0-44A2-90FE-AB774A21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774-5890-4244-9CC2-C4339228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C3A-EC2D-4CBC-ADA8-F59E23BA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0F3-407F-4342-9A0B-A8AA7BDD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E04C-B696-4FE6-A8E2-8E1AED92C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isture in the Air and Forecasting Weather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a piece of notebook paper and number from 10 –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core bin when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15627" r="26564" b="52084"/>
          <a:stretch/>
        </p:blipFill>
        <p:spPr>
          <a:xfrm>
            <a:off x="76320" y="609480"/>
            <a:ext cx="9067680" cy="2990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4344120"/>
            <a:ext cx="8686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 To predict areas of possible storm development, select a tool you would use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gather the necessary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Dew poin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Visible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Infrared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14584" r="25782" b="52084"/>
          <a:stretch/>
        </p:blipFill>
        <p:spPr>
          <a:xfrm>
            <a:off x="0" y="609480"/>
            <a:ext cx="9144000" cy="3079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3841920"/>
            <a:ext cx="88390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 You and your friends are going to an outdoor sporting event in 3 days and want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know what the weather will be like on that day.  Which tool or method would you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Temperatur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omput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Trend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15627" r="25782" b="51046"/>
          <a:stretch/>
        </p:blipFill>
        <p:spPr>
          <a:xfrm>
            <a:off x="-152280" y="838080"/>
            <a:ext cx="9296280" cy="3132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337320" y="4344120"/>
            <a:ext cx="92534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 Which is the best map to collect data for determining areas of fog and/or s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Lef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ente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Righ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14584" r="26564" b="51046"/>
          <a:stretch/>
        </p:blipFill>
        <p:spPr>
          <a:xfrm>
            <a:off x="304920" y="304920"/>
            <a:ext cx="8610480" cy="3022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3963240"/>
            <a:ext cx="89154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. Observe the changes in temperature for the entire country.  Select a state or tw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states together where you would expect that a front is occur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Maine and New Hampsh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Kansas and Nebra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Nevada and Califor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14584" r="26564" b="52084"/>
          <a:stretch/>
        </p:blipFill>
        <p:spPr>
          <a:xfrm>
            <a:off x="0" y="457200"/>
            <a:ext cx="9144000" cy="3112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200" y="4039560"/>
            <a:ext cx="60163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. Given the variables above, predict the we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Storms are 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Temperatures will 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No change is 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14584" r="26564" b="51046"/>
          <a:stretch/>
        </p:blipFill>
        <p:spPr>
          <a:xfrm>
            <a:off x="228600" y="685800"/>
            <a:ext cx="8763120" cy="3076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127440" y="4572720"/>
            <a:ext cx="6560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. Select the data provided when using the map abo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Water vapor in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lou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Observation of conditions righ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4584" r="26564" b="52084"/>
          <a:stretch/>
        </p:blipFill>
        <p:spPr>
          <a:xfrm>
            <a:off x="0" y="304920"/>
            <a:ext cx="8763120" cy="2982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4115520"/>
            <a:ext cx="85341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The relative humidity in cube “B”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Lower than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Higher than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The same as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127" t="19791" r="23438" b="46877"/>
          <a:stretch/>
        </p:blipFill>
        <p:spPr>
          <a:xfrm>
            <a:off x="76320" y="457200"/>
            <a:ext cx="8915400" cy="3035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2480" y="4344120"/>
            <a:ext cx="8072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Cube “A” is 15° warmer than cube “B”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Which cube shows air with lower relative humidity than the other cu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ube “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3127" t="19791" r="23438" b="46877"/>
          <a:stretch/>
        </p:blipFill>
        <p:spPr>
          <a:xfrm>
            <a:off x="76320" y="457200"/>
            <a:ext cx="8915400" cy="3035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8440" y="4496400"/>
            <a:ext cx="73976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Which image shows conditions for higher humi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Imag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Image “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3906" t="20835" r="25003" b="47920"/>
          <a:stretch/>
        </p:blipFill>
        <p:spPr>
          <a:xfrm>
            <a:off x="1371600" y="0"/>
            <a:ext cx="69343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4688" t="23960" r="25003" b="46877"/>
          <a:stretch/>
        </p:blipFill>
        <p:spPr>
          <a:xfrm>
            <a:off x="1447920" y="2286000"/>
            <a:ext cx="685800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5029560"/>
            <a:ext cx="71344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What is the highest relative humidity for the 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9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79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84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127" t="20835" r="24220" b="48964"/>
          <a:stretch/>
        </p:blipFill>
        <p:spPr>
          <a:xfrm>
            <a:off x="838080" y="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2344" t="25004" r="25003" b="46877"/>
          <a:stretch/>
        </p:blipFill>
        <p:spPr>
          <a:xfrm>
            <a:off x="762120" y="2209680"/>
            <a:ext cx="7086600" cy="2057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4877640"/>
            <a:ext cx="91440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At what time did the highest Relative Humidity occ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7:0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8:0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9:0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127" t="19791" r="23438" b="46877"/>
          <a:stretch/>
        </p:blipFill>
        <p:spPr>
          <a:xfrm>
            <a:off x="0" y="533520"/>
            <a:ext cx="9144000" cy="311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74600" y="4572720"/>
            <a:ext cx="9620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Select the letter on the illustration that shows water droplets falling from the clou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3127" t="19791" r="24220" b="46877"/>
          <a:stretch/>
        </p:blipFill>
        <p:spPr>
          <a:xfrm>
            <a:off x="1066680" y="0"/>
            <a:ext cx="7086600" cy="2438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3127" t="23960" r="25003" b="46877"/>
          <a:stretch/>
        </p:blipFill>
        <p:spPr>
          <a:xfrm>
            <a:off x="1066680" y="2362320"/>
            <a:ext cx="7010640" cy="2133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4982400"/>
            <a:ext cx="754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 At what time did the lowest Relative Humidity occ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12:00 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2:0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4:0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43480" y="4649040"/>
            <a:ext cx="71330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 Choose the most correct statement based upon your data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s relative humidity decreases, temperature de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As temperature increases, relative humidity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As relative humidity increase, temperature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As temperature increases, relative humidity de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3127" t="19791" r="24220" b="46877"/>
          <a:stretch/>
        </p:blipFill>
        <p:spPr>
          <a:xfrm>
            <a:off x="1066680" y="228600"/>
            <a:ext cx="708660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3127" t="23960" r="25003" b="46877"/>
          <a:stretch/>
        </p:blipFill>
        <p:spPr>
          <a:xfrm>
            <a:off x="1066680" y="2590920"/>
            <a:ext cx="7010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2:16:50Z</dcterms:created>
  <dc:creator>skrial</dc:creator>
  <dc:description/>
  <dc:language>en-US</dc:language>
  <cp:lastModifiedBy>skrial</cp:lastModifiedBy>
  <dcterms:modified xsi:type="dcterms:W3CDTF">2010-01-12T12:17:27Z</dcterms:modified>
  <cp:revision>1</cp:revision>
  <dc:subject/>
  <dc:title>Moisture in the Air and Forecasting Weather Quizzes</dc:title>
</cp:coreProperties>
</file>